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AF9-1C8B-4F4C-A769-6F54DDA5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BCD-E2E6-4ADE-8356-F499692E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536-7563-4B3F-8BA6-60183A45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0F9-348F-4536-8D5B-CCCBB827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F8B-E000-4C0B-98E4-5247A73D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C68-3FA7-4FA5-B40C-06F82EF5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024-9467-461A-A02A-A4506811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DFC-D14F-4EC2-9E60-AF9C1548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BA2-2C02-4B35-9E83-8E3CE9E0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302-B015-4D50-88E3-9A9C1C0A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DAD-ADD3-45B6-8C63-CFB052CC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1AA-F704-4690-BE08-A83A363E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B25F-6550-4E62-A5B6-1C14E22FCC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7e7ff"/>
                </a:solidFill>
                <a:latin typeface="Arial"/>
              </a:rPr>
              <a:t>«Песни военных лет»</a:t>
            </a:r>
            <a:br>
              <a:rPr sz="4400"/>
            </a:br>
            <a:r>
              <a:rPr b="0" i="1" lang="ru-RU" sz="3200" spc="-1" strike="noStrike">
                <a:solidFill>
                  <a:srgbClr val="b7e7ff"/>
                </a:solidFill>
                <a:latin typeface="Arial"/>
              </a:rPr>
              <a:t>для детей подготовительной группы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гаева Ольга Викто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зыкальный руководитель МДОБУ детского сада комбинированного вида № 42 МО Кореновский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-28.jpg"/>
          <p:cNvPicPr/>
          <p:nvPr/>
        </p:nvPicPr>
        <p:blipFill>
          <a:blip r:embed="rId1"/>
          <a:stretch/>
        </p:blipFill>
        <p:spPr>
          <a:xfrm>
            <a:off x="971640" y="515880"/>
            <a:ext cx="7488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33000"/>
            <a:ext cx="8510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7e7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3" name="Рисунок 4" descr="img9.jpg"/>
          <p:cNvPicPr/>
          <p:nvPr/>
        </p:nvPicPr>
        <p:blipFill>
          <a:blip r:embed="rId1"/>
          <a:stretch/>
        </p:blipFill>
        <p:spPr>
          <a:xfrm>
            <a:off x="1476360" y="2060640"/>
            <a:ext cx="60958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112612521_siren4.gif"/>
          <p:cNvPicPr/>
          <p:nvPr/>
        </p:nvPicPr>
        <p:blipFill>
          <a:blip r:embed="rId1"/>
          <a:stretch/>
        </p:blipFill>
        <p:spPr>
          <a:xfrm>
            <a:off x="826920" y="554040"/>
            <a:ext cx="777744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312082636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img17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684848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53480272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Wallpaper_5147_Soldier_Stalingrad-194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124250410398.jpeg"/>
          <p:cNvPicPr/>
          <p:nvPr/>
        </p:nvPicPr>
        <p:blipFill>
          <a:blip r:embed="rId1"/>
          <a:stretch/>
        </p:blipFill>
        <p:spPr>
          <a:xfrm>
            <a:off x="395280" y="409680"/>
            <a:ext cx="84978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01.JPG"/>
          <p:cNvPicPr/>
          <p:nvPr/>
        </p:nvPicPr>
        <p:blipFill>
          <a:blip r:embed="rId1"/>
          <a:stretch/>
        </p:blipFill>
        <p:spPr>
          <a:xfrm>
            <a:off x="433440" y="765000"/>
            <a:ext cx="82771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9:13:24Z</dcterms:created>
  <dc:creator>Admin</dc:creator>
  <dc:description/>
  <dc:language>en-US</dc:language>
  <cp:lastModifiedBy>Ноут</cp:lastModifiedBy>
  <dcterms:modified xsi:type="dcterms:W3CDTF">2015-03-30T14:07:07Z</dcterms:modified>
  <cp:revision>17</cp:revision>
  <dc:subject/>
  <dc:title>Песни военных лет</dc:title>
</cp:coreProperties>
</file>